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E8C4-83BA-496D-8FC1-3575FCB65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43C7-B696-4677-9693-28706D0D4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B084-784E-4879-BE5C-EF01FFB4D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E3D8-0D01-463C-8A17-3EF95C18D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3609-524E-41AC-A4EB-1A669E39C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93CC-6CC1-41EB-BAEB-A64F44018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5215-91E9-46BF-AD0A-2CA7AD7A9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52A8-4998-4DAA-A730-8FD12D3B8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B8E4-0076-4350-884D-793B754AA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D6B0-0D04-4DB5-8549-9C4ECE8B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F6DE-5013-4CE2-B86F-DC90A705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C40C-06CF-4ABB-B87A-1F390020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2E3F8-F3F7-491B-B3F0-23BA654A3B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ct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fice Produ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exting and Ag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ypo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urv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Robert But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85800" y="2006640"/>
            <a:ext cx="380988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ong cell phone users, teenagers text as a primary means of communication, while older generations text less frequently and favor phone ca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5029200"/>
            <a:ext cx="2133720" cy="1219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629400" y="4800600"/>
            <a:ext cx="1739880" cy="1587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124080" y="5410080"/>
            <a:ext cx="3200400" cy="486000"/>
          </a:xfrm>
          <a:prstGeom prst="leftRightArrow">
            <a:avLst>
              <a:gd name="adj1" fmla="val 50000"/>
              <a:gd name="adj2" fmla="val 1310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447920"/>
            <a:ext cx="1128060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1. I feel that sending text messages is eas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-Strongly ag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-Ag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-Indiffer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-Disag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-Strongly Disag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2. If I have a simple question for a friend I would likely text him/her rather than cal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-Strongly ag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-Ag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-Indiffer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-Disag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-Strongly Disag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3. I feel that texting is an effective way to communicate basic informa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-Strongly ag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-Ag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-Indiffer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-Disag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-Strongly Disag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4. In an average week I send 20 or more text messag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-Strongly ag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-Ag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-Indiffer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-Disag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-Strongly Disag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5. I use my cell phone more for texting than for phone call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-Strongly ag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-Ag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-Indiffer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-Disag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-Strongly Disag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The Surve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ge and Gender of Survey Participa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295280" y="1600200"/>
          <a:ext cx="6629400" cy="440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1600200"/>
                    <a:ext cx="6629400" cy="44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s of Particip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143000" y="1397160"/>
          <a:ext cx="6859440" cy="406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1397160"/>
                    <a:ext cx="685944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ll Phone Use by 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-152280" y="1797120"/>
          <a:ext cx="9296280" cy="5060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152280" y="1797120"/>
                    <a:ext cx="9296280" cy="50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sed on the results of the survey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ens are most comfortable with texting and use it more frequently than the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ose in their 20s and early 30s are more evenly split between texting and phone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ose from 35-60 are comfortable with texting but prefer phone calls to communicate basic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7T21:31:21Z</dcterms:created>
  <dc:creator>Mr Butler</dc:creator>
  <dc:description/>
  <dc:language>en-US</dc:language>
  <cp:lastModifiedBy>Mr Butler</cp:lastModifiedBy>
  <dcterms:modified xsi:type="dcterms:W3CDTF">2010-03-07T23:35:34Z</dcterms:modified>
  <cp:revision>4</cp:revision>
  <dc:subject/>
  <dc:title>The Survey:</dc:title>
</cp:coreProperties>
</file>