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E21-32AD-49FF-94D2-7FDE0882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A89-817B-4343-876B-8EED296F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DA0-8167-4096-AC96-63BF4B86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2BC-830D-4F49-B67B-6356933A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445-931B-4858-AF3F-577A0FBD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967-B7DB-480D-96FC-232674DB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7CE-68F9-4283-8C17-C8AC6605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F47-DD01-47FB-B9E0-A0714F8C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0031-EE8C-467B-8B12-C3E35C44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7A0-715A-4BFB-B261-371249F6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024-C5DF-465B-B283-4608BDBB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BA2-D732-4031-AF1D-7BAF0806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76BE-71C7-4EBC-A169-97075796F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ice Produ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xting and 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obert Bu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2006640"/>
            <a:ext cx="3809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ng cell phone users, teenagers text as a primary means of communication, while older generations text less frequently and favor phone c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502920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629400" y="4800600"/>
            <a:ext cx="1739880" cy="158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24080" y="5410080"/>
            <a:ext cx="3200400" cy="486000"/>
          </a:xfrm>
          <a:prstGeom prst="leftRightArrow">
            <a:avLst>
              <a:gd name="adj1" fmla="val 50000"/>
              <a:gd name="adj2" fmla="val 1310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447920"/>
            <a:ext cx="112806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1. I feel that sending text messages is eas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2. If I have a simple question for a friend I would likely text him/her rather than c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3. I feel that texting is an effective way to communicate basic inform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4. In an average week I send 20 or more text messag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5. I use my cell phone more for texting than for phone call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Strongly 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-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-Indiffe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-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-Strongly Disa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 Surve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 and Gender of Survey Particip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95280" y="1600200"/>
          <a:ext cx="6629400" cy="44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600200"/>
                    <a:ext cx="662940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s of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3000" y="1397160"/>
          <a:ext cx="6859440" cy="40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397160"/>
                    <a:ext cx="68594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hone Use by 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-152280" y="1797120"/>
          <a:ext cx="9296280" cy="506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797120"/>
                    <a:ext cx="929628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sed on the results of the surve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ens are most comfortable with texting and use it more frequently than the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in their 20s and early 30s are more evenly split between texting and phon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from 35-60 are comfortable with texting but prefer phone calls to communicate basic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21:31:21Z</dcterms:created>
  <dc:creator>Mr Butler</dc:creator>
  <dc:description/>
  <dc:language>en-US</dc:language>
  <cp:lastModifiedBy>Mr Butler</cp:lastModifiedBy>
  <dcterms:modified xsi:type="dcterms:W3CDTF">2010-03-07T23:35:34Z</dcterms:modified>
  <cp:revision>4</cp:revision>
  <dc:subject/>
  <dc:title>The Survey:</dc:title>
</cp:coreProperties>
</file>