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105-CCB6-4CE6-B44F-4431E5BD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A0C-3E26-4A7B-AFD1-88022795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E27-4298-47A1-A947-93C41C8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823-EC7D-428D-9923-BE3C6E1C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7F0-BF0C-4941-B267-B294BA06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C21-0ECB-462F-8861-2DF263C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245-880E-45AB-8D71-16A39BB6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374-77C3-4F51-ABFE-0F999EB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A58-5F81-41B4-BD73-771D2481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493-FD9D-4F1B-ACE8-ECE71A6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34D-D8BD-4A93-8760-614FEEF5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BBE-3B96-4927-8576-3A83E73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244-1DC5-4EB4-99C3-F6594794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 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xting and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obert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cell phone users, teenagers text as a primary means of communication, while older generations text less frequently and favor phone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4800600"/>
            <a:ext cx="1739880" cy="158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24080" y="5410080"/>
            <a:ext cx="3200400" cy="486000"/>
          </a:xfrm>
          <a:prstGeom prst="leftRightArrow">
            <a:avLst>
              <a:gd name="adj1" fmla="val 50000"/>
              <a:gd name="adj2" fmla="val 131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11280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1. I feel that sending text messages is eas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2. If I have a simple question for a friend I would likely text him/her rather than c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3. I feel that texting is an effective way to communicate basic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4. In an average week I send 20 or more text messag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5. I use my cell phone more for texting than for phone cal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Surve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 and Gender of Survey 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1600200"/>
          <a:ext cx="662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66294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s of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1397160"/>
          <a:ext cx="68594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397160"/>
                    <a:ext cx="6859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hone Use by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-152280" y="1797120"/>
          <a:ext cx="9296280" cy="506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797120"/>
                    <a:ext cx="929628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sed on the results of the surve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ns are most comfortable with texting and use it more frequently than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in their 20s and early 30s are more evenly split between texting and phon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from 35-60 are comfortable with texting but prefer phone calls to communicate bas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1:31:21Z</dcterms:created>
  <dc:creator>Mr Butler</dc:creator>
  <dc:description/>
  <dc:language>en-US</dc:language>
  <cp:lastModifiedBy>Mr Butler</cp:lastModifiedBy>
  <dcterms:modified xsi:type="dcterms:W3CDTF">2010-03-07T23:35:34Z</dcterms:modified>
  <cp:revision>4</cp:revision>
  <dc:subject/>
  <dc:title>The Survey:</dc:title>
</cp:coreProperties>
</file>