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B269-E375-473F-863A-E09F6242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78F-B097-41F9-A7DE-7F9D987F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E6C-E430-4815-ACD1-00BDFBED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06F-D175-47F3-9364-BEF54843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27F5-F3AB-4AC2-BC49-05F0628B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8A66-6723-4E75-BE2C-4B6A2BB7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4A3-5934-4BC7-9555-E3F108FD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270B-AD75-4B10-8690-5CC48222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3A3F-4F4E-4690-9370-6B56A59F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ED88-7A31-4460-AC3D-88542F65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3DC8-F514-4FF6-BFFA-84167608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CC44-5B95-4751-B43E-6425ACFA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CEE7-45B7-4BB0-A1EC-31EC2C484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fice Produ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xting and 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obert Bu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" y="2006640"/>
            <a:ext cx="38098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ng cell phone users, teenagers text as a primary means of communication, while older generations text less frequently and favor phone c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5029200"/>
            <a:ext cx="2133720" cy="1219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629400" y="4800600"/>
            <a:ext cx="1739880" cy="158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24080" y="5410080"/>
            <a:ext cx="3200400" cy="486000"/>
          </a:xfrm>
          <a:prstGeom prst="leftRightArrow">
            <a:avLst>
              <a:gd name="adj1" fmla="val 50000"/>
              <a:gd name="adj2" fmla="val 1310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447920"/>
            <a:ext cx="112806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1. I feel that sending text messages is eas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Strongly 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-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-Indiffe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-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-Strongly 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2. If I have a simple question for a friend I would likely text him/her rather than c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Strongly 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-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-Indiffe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-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-Strongly 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3. I feel that texting is an effective way to communicate basic inform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Strongly 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-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-Indiffe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-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-Strongly 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4. In an average week I send 20 or more text messag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Strongly 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-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-Indiffe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-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-Strongly 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5. I use my cell phone more for texting than for phone call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Strongly 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-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-Indiffe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-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-Strongly 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 Surve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 and Gender of Survey Particip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95280" y="1600200"/>
          <a:ext cx="6629400" cy="44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600200"/>
                    <a:ext cx="662940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s of 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43000" y="1397160"/>
          <a:ext cx="6859440" cy="40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397160"/>
                    <a:ext cx="68594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hone Use by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-152280" y="1797120"/>
          <a:ext cx="9296280" cy="506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2280" y="1797120"/>
                    <a:ext cx="929628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sed on the results of the surve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ens are most comfortable with texting and use it more frequently than the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in their 20s and early 30s are more evenly split between texting and phon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from 35-60 are comfortable with texting but prefer phone calls to communicate basic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21:31:21Z</dcterms:created>
  <dc:creator>Mr Butler</dc:creator>
  <dc:description/>
  <dc:language>en-US</dc:language>
  <cp:lastModifiedBy>Mr Butler</cp:lastModifiedBy>
  <dcterms:modified xsi:type="dcterms:W3CDTF">2010-03-07T23:35:34Z</dcterms:modified>
  <cp:revision>4</cp:revision>
  <dc:subject/>
  <dc:title>The Survey:</dc:title>
</cp:coreProperties>
</file>